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822-7771-46E1-9393-F8137BA7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023-84AE-40DD-93DB-23BA4D1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663-2176-4D06-B043-EA4B607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AAB-05AA-4C2A-9C4E-DD6F1EE2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B88C-932A-40F0-8E26-BC8CB3CD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64CB-9662-4429-AD01-8B5510B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EBD7-4A6B-4260-89ED-D9AB449D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3FE-3D94-4FBD-A64D-C9D055C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CFB-EBA0-4EF8-BA65-C6C8EE37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5676-F78F-4D57-AA06-D69119E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18AE-17C3-4E98-9AFA-316F25C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9A7-4CAD-48BC-AFDD-A587381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8604-59BB-4BA4-8B06-9D55451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68A-08A5-489C-A828-08F95B9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E3A-FDBB-433D-B292-2DDFD187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49A0-34F6-462B-84F7-BA2687F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80EF-2D2F-4230-AECB-9A84EDEB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5AA-AC59-4C41-98C1-1D291BDB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575-DE57-44B6-A821-BE623E5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D76-03B8-41D1-B5C6-A56DEC0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ED3-BF83-401D-BB6F-3BFA658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FC6-CF17-4415-B9D3-B90215B3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FA1-4B18-4407-AE2E-10DDC29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5B8-6862-4D5F-A24C-22EA0FA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27C-B1B3-4A7E-A9B6-6F36C2D0E4D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73F-BCCA-4F3C-BBDE-D2ED28506BD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5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8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27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7.xml"/><Relationship Id="rId23" Type="http://schemas.openxmlformats.org/officeDocument/2006/relationships/slide" Target="slide12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ps.k12.pa.us/143110127104733313/lib/143110127104733313/Distance%20Learning/Pictures/Jeopar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lcom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opic For Today Is AF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Keny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Kenya is Nairob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Nigeri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Nigeria is Abuj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3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010120" y="536400"/>
            <a:ext cx="3944880" cy="1328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is the most populated city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st populated city in Africa is Cair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3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iraff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4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5"/>
          <a:stretch/>
        </p:blipFill>
        <p:spPr>
          <a:xfrm>
            <a:off x="2666880" y="2133720"/>
            <a:ext cx="5181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park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sai Mar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47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5"/>
          <a:stretch/>
        </p:blipFill>
        <p:spPr>
          <a:xfrm>
            <a:off x="3916440" y="1828800"/>
            <a:ext cx="4998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anz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rengeti National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53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9" descr="http://www.abouttanzania.com/imaging/seremap2.gif"/>
          <p:cNvPicPr/>
          <p:nvPr/>
        </p:nvPicPr>
        <p:blipFill>
          <a:blip r:embed="rId5"/>
          <a:stretch/>
        </p:blipFill>
        <p:spPr>
          <a:xfrm>
            <a:off x="5029200" y="1752480"/>
            <a:ext cx="39513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ctoria Fa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59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5"/>
          <a:stretch/>
        </p:blipFill>
        <p:spPr>
          <a:xfrm>
            <a:off x="3162240" y="2220840"/>
            <a:ext cx="4496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mbuktu Mosq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65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5"/>
          <a:stretch/>
        </p:blipFill>
        <p:spPr>
          <a:xfrm>
            <a:off x="3200400" y="2057400"/>
            <a:ext cx="459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wo African desert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of the following : Sahara, Algerian, Blue, Kalahari, Karoo, Libyan, Namib, Nubian, Owami,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7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95360" y="1615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highest mountain in Africa and in what country is it locate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t. Kilimanjaro in Tanz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17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838080"/>
          <a:ext cx="8229600" cy="4743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 felt the rains down in Af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me th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What a Relief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ery interest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3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4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5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6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7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8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9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0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1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2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3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4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5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6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7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8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9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0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1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2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3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4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5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6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7200" y="563868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7" action="ppaction://hlinksldjump"/>
                        </a:rPr>
                        <a:t>Bonus Question: 5000 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wo of the five main rivers of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of the following: The Nile River, The Congo River, The Zambezi River, The Niger River, The Orange Ri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81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land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ile Del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86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3"/>
          <a:stretch/>
        </p:blipFill>
        <p:spPr>
          <a:xfrm>
            <a:off x="4886280" y="2057400"/>
            <a:ext cx="2048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5010120" y="536400"/>
            <a:ext cx="3944880" cy="1328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 in Africa can you find thes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Madagasc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1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92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kind of people will you find in South Africa? And what is their main languag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uth African English and Afrikaans is spoken, and about 80% of the population is of black African ancest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7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98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often does a lion ea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out once every five da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2" name="Rectangle 9" descr=""/>
          <p:cNvPicPr/>
          <p:nvPr/>
        </p:nvPicPr>
        <p:blipFill>
          <a:blip r:embed="rId2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203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most popular tourist destination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yramids in Egy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208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ssai is a tribe that lives in the Masai Mara in Kenya. What is their diet lik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ir diet consists of meat, milk, and bloo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213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4" descr=""/>
          <p:cNvPicPr/>
          <p:nvPr/>
        </p:nvPicPr>
        <p:blipFill>
          <a:blip r:embed="rId2"/>
          <a:stretch/>
        </p:blipFill>
        <p:spPr>
          <a:xfrm>
            <a:off x="420840" y="-1224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0" y="538020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Winner Of The Last Round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Write Down How Much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You Are Willing To Risk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the Question write you win that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it wrong you Loss the money!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2" descr=""/>
          <p:cNvPicPr/>
          <p:nvPr/>
        </p:nvPicPr>
        <p:blipFill>
          <a:blip r:embed="rId2"/>
          <a:stretch/>
        </p:blipFill>
        <p:spPr>
          <a:xfrm>
            <a:off x="420840" y="-1224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Winner Of The Last Round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Write Down How Much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You Are Willing To Risk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the Question write you win that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it wrong you Loss the money!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rica is a contin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3320" y="5791320"/>
            <a:ext cx="1171440" cy="701640"/>
          </a:xfrm>
          <a:prstGeom prst="rect">
            <a:avLst/>
          </a:prstGeom>
          <a:ln w="0">
            <a:noFill/>
          </a:ln>
        </p:spPr>
      </p:pic>
      <p:sp>
        <p:nvSpPr>
          <p:cNvPr id="9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1219320" cy="457200"/>
          </a:xfrm>
          <a:prstGeom prst="leftArrow">
            <a:avLst>
              <a:gd name="adj1" fmla="val 92426"/>
              <a:gd name="adj2" fmla="val 59092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countries are there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 total of 56 countri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480" y="5791320"/>
            <a:ext cx="1171440" cy="701640"/>
          </a:xfrm>
          <a:prstGeom prst="rect">
            <a:avLst/>
          </a:prstGeom>
          <a:ln w="0">
            <a:noFill/>
          </a:ln>
        </p:spPr>
      </p:pic>
      <p:sp>
        <p:nvSpPr>
          <p:cNvPr id="9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ree bodies of water that surround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tlantic Ocean, the Indian Ocean, and the Red S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0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is the most spoken language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over 170 million speakers, Arabic is the most spoken language in Af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10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5035680" y="536400"/>
            <a:ext cx="3895560" cy="13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languages are spoken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over 2,000 languages spoken in Af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1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Egyp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Egypt is Cair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1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Liby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Libya is Tripol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2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4:37:08Z</dcterms:created>
  <dc:creator>Amy</dc:creator>
  <dc:description/>
  <dc:language>en-US</dc:language>
  <cp:lastModifiedBy>Salvador</cp:lastModifiedBy>
  <dcterms:modified xsi:type="dcterms:W3CDTF">2012-05-31T21:00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9439990</vt:lpwstr>
  </property>
</Properties>
</file>